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86D2-49D0-4484-9BFF-4CB173B5AE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0B9E-2976-43DF-8A36-14DF5AA9BA2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82E5-C330-4450-88A0-EC90D712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ADA5-99EE-4A8D-8381-498BA6AA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717E-2556-4FDF-9748-B2CE43C4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C9E6-56A8-4428-8BAE-A4C839B3C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57F9-0374-4EC5-89AC-8C6D4EC52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F7F9-3BA7-40F0-8D93-2AB7C1EF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5F01-C972-49DE-A351-7BBB8781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825C-58DA-400B-8E67-502B41E2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55DF-2B22-4E36-8B29-6CCE759A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11F2-ECCE-47A8-A524-18C02C62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4C42-BB15-488F-B57D-19EA1CD9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C9DD-15AA-4B17-A469-0471D837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F5CB-DF54-43DF-87B4-9DC6D45B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A912-F9AA-4F47-9C97-43F606A4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6BF8-ADB1-4511-AE1B-34E9213C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C71B-F449-484E-BDF1-C74AE20CE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951A-BC88-474C-8775-1B63A5EC9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FD13-01BE-46EF-ACB2-DB480AC1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FC07-3BFD-482C-AEE7-8A62860B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EF8C-8BFA-46CB-8ABD-6E9A63F8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0D34-3F29-4783-9B75-E0DDF264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7F46-9D49-44CC-A5CA-751F3925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9253-2FDE-4018-9A6F-09B4E703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882C-B47F-4024-92E8-8CB2D164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6b5699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F78C-1710-4EAC-A01A-6BBFC84973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3C16-FE50-483C-8E22-E4C34829A73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00160" y="213840"/>
            <a:ext cx="492912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d9d9ff"/>
                </a:solidFill>
                <a:uFillTx/>
                <a:latin typeface="Comic Sans MS"/>
              </a:rPr>
              <a:t>Bach, canolig neu mawr?</a:t>
            </a:r>
            <a:endParaRPr b="1" lang="en-US" sz="32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65040" y="1090080"/>
            <a:ext cx="8779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e Alwyn, Beth a Carol wedi mynd i’r sine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ent am gael diod yr u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Meddai Beth wrth y gwerthwr diodyd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Rydym eisiau un diod bach, un maint canol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ag un maint mawr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Dywedodd y bachgen a oedd yn cael diod canol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Roddwn i’n meddwl i ti ddweud dy fod am gael diod mawr!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500040" y="52862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cc"/>
                </a:solidFill>
                <a:latin typeface="Comic Sans MS"/>
              </a:rPr>
              <a:t>Pa ddiod cafodd pwy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8120160" y="5502240"/>
            <a:ext cx="1023840" cy="1355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7500960" y="214200"/>
            <a:ext cx="1400040" cy="1414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3"/>
          <a:stretch/>
        </p:blipFill>
        <p:spPr>
          <a:xfrm>
            <a:off x="214200" y="2786040"/>
            <a:ext cx="1071720" cy="1231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656480" y="2071800"/>
            <a:ext cx="1487520" cy="15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9:11:10Z</dcterms:created>
  <dc:creator>Carwyn</dc:creator>
  <dc:description/>
  <dc:language>en-US</dc:language>
  <cp:lastModifiedBy>Carwyn</cp:lastModifiedBy>
  <dcterms:modified xsi:type="dcterms:W3CDTF">2009-11-29T13:33:30Z</dcterms:modified>
  <cp:revision>3</cp:revision>
  <dc:subject/>
  <dc:title>Clowniaid</dc:title>
</cp:coreProperties>
</file>